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B46-10EC-4C36-99F0-32EC1E790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324B-C015-4837-8FDD-9FF43DC5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237-FC12-4159-8B3A-8185140D2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C5DB-D6F6-4C9A-870C-3536836C8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388620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396252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228600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23623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>
            <a:hlinkClick r:id="" action="ppaction://hlinkshowjump?jump=firstslide"/>
          </p:cNvPr>
          <p:cNvSpPr/>
          <p:nvPr/>
        </p:nvSpPr>
        <p:spPr>
          <a:xfrm>
            <a:off x="5562720" y="62485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52" h="21600">
                <a:moveTo>
                  <a:pt x="34176" y="3837"/>
                </a:moveTo>
                <a:lnTo>
                  <a:pt x="36752" y="6448"/>
                </a:ln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lnTo>
                  <a:pt x="41139" y="10800"/>
                </a:lnTo>
                <a:lnTo>
                  <a:pt x="39485" y="10800"/>
                </a:lnTo>
                <a:lnTo>
                  <a:pt x="39485" y="17989"/>
                </a:lnTo>
                <a:lnTo>
                  <a:pt x="28867" y="17989"/>
                </a:lnTo>
                <a:lnTo>
                  <a:pt x="28867" y="10800"/>
                </a:lnTo>
                <a:lnTo>
                  <a:pt x="27213" y="10800"/>
                </a:lnTo>
                <a:close/>
              </a:path>
              <a:path fill="darkenLess" w="68352" h="21600">
                <a:moveTo>
                  <a:pt x="36752" y="6448"/>
                </a:move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close/>
              </a:path>
              <a:path fill="darkenLess" w="68352" h="21600">
                <a:moveTo>
                  <a:pt x="33253" y="14299"/>
                </a:moveTo>
                <a:lnTo>
                  <a:pt x="35099" y="14299"/>
                </a:lnTo>
                <a:lnTo>
                  <a:pt x="35099" y="17989"/>
                </a:lnTo>
                <a:lnTo>
                  <a:pt x="39485" y="17989"/>
                </a:lnTo>
                <a:lnTo>
                  <a:pt x="39485" y="10800"/>
                </a:lnTo>
                <a:lnTo>
                  <a:pt x="28867" y="10800"/>
                </a:lnTo>
                <a:lnTo>
                  <a:pt x="28867" y="17989"/>
                </a:lnTo>
                <a:lnTo>
                  <a:pt x="33253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3581280" y="6095880"/>
            <a:ext cx="213372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7772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ience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16509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24638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332748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41655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50036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16509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057400" y="24638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057400" y="332748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057400" y="41655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057400" y="50036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809880" y="16509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9880" y="24638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3809880" y="332748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809880" y="41655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09880" y="50036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562720" y="16509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562720" y="24638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562720" y="332748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562720" y="41655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5562720" y="50036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7315200" y="16509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7315200" y="24638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7315200" y="332748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7315200" y="41655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7315200" y="50036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304920" y="838080"/>
            <a:ext cx="16002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2057400" y="838080"/>
            <a:ext cx="1600200" cy="337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3809880" y="838080"/>
            <a:ext cx="160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5562720" y="838080"/>
            <a:ext cx="16002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/Space 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315200" y="838080"/>
            <a:ext cx="1600200" cy="337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5"/>
          <p:cNvSpPr/>
          <p:nvPr/>
        </p:nvSpPr>
        <p:spPr>
          <a:xfrm>
            <a:off x="7924680" y="76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35812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p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1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Van der Walls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E=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pac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inverse squar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kg 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ccelerating a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ight-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Centu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175248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Save a duplicate of this temp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Enter all answers and questions in the normal view.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hange the category headings in the normal view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View as a slidesh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Use the home red button after ea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" action="ppaction://hlinkshowjump?jump=firstslide"/>
          </p:cNvPr>
          <p:cNvSpPr/>
          <p:nvPr/>
        </p:nvSpPr>
        <p:spPr>
          <a:xfrm>
            <a:off x="1066680" y="434340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9" h="21600">
                <a:moveTo>
                  <a:pt x="25194" y="3837"/>
                </a:moveTo>
                <a:lnTo>
                  <a:pt x="27771" y="6448"/>
                </a:ln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lnTo>
                  <a:pt x="32157" y="10800"/>
                </a:lnTo>
                <a:lnTo>
                  <a:pt x="30504" y="10800"/>
                </a:lnTo>
                <a:lnTo>
                  <a:pt x="30504" y="17989"/>
                </a:lnTo>
                <a:lnTo>
                  <a:pt x="19885" y="17989"/>
                </a:lnTo>
                <a:lnTo>
                  <a:pt x="19885" y="10800"/>
                </a:lnTo>
                <a:lnTo>
                  <a:pt x="18231" y="10800"/>
                </a:lnTo>
                <a:close/>
              </a:path>
              <a:path fill="darkenLess" w="50389" h="21600">
                <a:moveTo>
                  <a:pt x="27771" y="6448"/>
                </a:move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close/>
              </a:path>
              <a:path fill="darkenLess" w="50389" h="21600">
                <a:moveTo>
                  <a:pt x="24272" y="14299"/>
                </a:moveTo>
                <a:lnTo>
                  <a:pt x="26117" y="14299"/>
                </a:lnTo>
                <a:lnTo>
                  <a:pt x="26117" y="17989"/>
                </a:lnTo>
                <a:lnTo>
                  <a:pt x="30504" y="17989"/>
                </a:lnTo>
                <a:lnTo>
                  <a:pt x="30504" y="10800"/>
                </a:lnTo>
                <a:lnTo>
                  <a:pt x="19885" y="10800"/>
                </a:lnTo>
                <a:lnTo>
                  <a:pt x="19885" y="17989"/>
                </a:lnTo>
                <a:lnTo>
                  <a:pt x="24272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295280" y="640080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Norman Herr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u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ateritic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ul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ic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trans-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D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auli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1800" y="2333520"/>
            <a:ext cx="7340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rokary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What is an organism wh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DNA is not contained in its nucle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mutu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gibberell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odixative phsophory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ouble replac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19:09Z</dcterms:created>
  <dc:creator>Norman Herr</dc:creator>
  <dc:description/>
  <dc:language>en-US</dc:language>
  <cp:lastModifiedBy>Norman Herr</cp:lastModifiedBy>
  <dcterms:modified xsi:type="dcterms:W3CDTF">2011-10-19T20:53:52Z</dcterms:modified>
  <cp:revision>20</cp:revision>
  <dc:subject/>
  <dc:title>Science Jeopardy</dc:title>
</cp:coreProperties>
</file>